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BE35-41FC-4E59-90E3-AF605E705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0874-965A-4011-AAF5-FBF815BD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0E77A-1E42-4CE1-9A87-09AAAD6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B5741-A682-47D2-80E7-A260479B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33905-87C4-486C-BEC6-A42C746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6B5F2-8C9B-49E9-941B-F663338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19DD6-EDD2-4CC3-BB83-752B71E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6FB5D-5DC5-48B2-A271-05B18FA8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A80AA9-BF12-4D35-832E-77F9B879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7EBE3-FB15-4DC8-B47A-002A409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964CE5-EC1D-4CA4-833A-71FD91853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4EBB-86F0-4ABC-A63C-6A546216E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309C-2B6C-4DD3-9D99-831D8FD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C65C-82A1-4AF7-8DB8-6465EDF5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8572-B20F-4226-9F2C-C833D8A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DE32-8967-42EB-A190-1BEA78C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CCD1-F4A9-4ACE-A7C2-5D9E93B2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560A-6647-49ED-9A2C-26519EC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EE9F-4D5C-4645-A1EE-1C40A8D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146F-42DF-485F-965E-6B1D359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A6D4-A382-4EAD-94CE-893AA45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9C9B-0CE5-45BF-AEEF-BC021846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6C25-90D0-4FA2-B70E-8FEB231C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8092-15C7-496D-BB0F-3D256CE81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6F61-228B-4978-9122-0F55D90FC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21782-CD6A-480E-BE4D-ABB95B07C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AA6F0-8130-47DF-B644-101CC0EB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DE2B6-9CE2-4ECA-856B-0D687A04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7347A-F5ED-4312-8DC9-FF5BCB5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F93F8-CFC1-4C03-8FE7-C9BA52F9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25EA1-8786-45EC-8CB4-9A3062B0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8CC1D-ACB4-4B16-9C75-B15AF978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80805-E9DC-4DD8-BF4F-AB9B3021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D3154-A6B7-4BC2-BD67-ECA01D1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4F58-12B3-4853-BDAF-2BD0170A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7D65B-9A2E-4213-93BD-23B9810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4B312-5696-4B31-827A-85367F4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1DA9B-E765-424B-A965-B5BB087C7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79E64-A418-4C7B-B4AA-B3EB0E6CA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CB3A5-939D-45BC-8C83-E065CEB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04B2E-16F1-4946-9E4C-AE1C961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AE0E3-4DC8-4569-92DF-7000C58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31ED8-4BBA-45DB-BEF2-8C49496D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CD211-86D9-4CCB-B4BF-AFD4B1D3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5CC63-D018-4803-8E02-462FB6E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E664F-CA8C-499C-9100-417AE26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9A8D5-4AC6-4E91-BBB3-24B7467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26B19-8B78-4979-B37C-555A0A99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C9A1-0096-42CA-82C7-5823A0D4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D18D5-EEF9-454E-BEDE-4985DCB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EB9F1-AD0B-4E59-97E2-BC14EA873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C2EA-F135-424D-B97D-6A598C47A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A85FB-622F-493A-A590-5A3B54E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C714F-995D-4FA4-B416-88B4876E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BCE0B-4672-4448-846A-0575F3B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5F1BB-27F2-49DC-B1CA-00BC75D7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DBBEA-5B52-41F2-A09D-AB26BE3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8D43-2C43-4075-B0CB-73CA60FF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61157-4B82-4F03-AC64-8818BAF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6A5ED-9AE3-4891-9570-0FE624F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395C7-C130-4512-9A61-A767073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E98D0-AEC3-4FCE-B09D-CD49027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105D-16D5-410C-834C-D8E01C3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E6D0-6633-4B62-85EF-91D7E464D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32242-8AD8-4FEA-AC3A-2BE56A7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BA6EA-8660-4DCD-B41A-8E3E15A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B053D-F1E5-4547-89F9-99BD48D2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EA9C0-84BF-4B39-BE61-0F22299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8AEBD-22B7-4FBA-9180-1FC10F5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6A805-1D52-465D-B423-9F692587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849CD-FCF7-4EAB-83BE-EF4A7C6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2FF7C-E059-4909-96A6-F6A9A57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C9C16-1C18-4EA3-92DD-93ABC2D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0769D-75FB-498B-9E65-9056789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3FEAA-EBB9-403A-80CE-66CE7CC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C9B20-D271-4662-B0BD-A4842EC6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19428-8240-468F-BBC2-6D24D338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6A0C-3730-49B4-9E66-883DD509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B742F-6AEC-488E-9998-D5B24EA8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ADA6-E931-411D-994F-E3C8F16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BE48-83E4-4D7B-95F2-18E8C10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EFB3-BF69-457D-9DBF-AC4FE0A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4855-3EE5-45F3-A491-D48E28A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1E12D-175E-4F38-9FBF-E044BB35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CB425-3900-4C68-AE30-8F6CD13D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E4D42-374F-4718-99A8-29242A5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45005-FD5B-47A3-82A5-7A31B34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BC705-08B8-4516-AD9E-5E7C57E5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DC86C-E86E-4619-AA76-B50EDF90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E620-CE9A-4F30-BA80-2F97631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217BA-3A75-417F-97DE-E250A0BF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B44AE-A6B9-4EC4-A8DE-E61597E3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2A917-1525-495A-A501-0CA56659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A197-8C0A-4C2F-8C28-A0F33E2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360FD-1D80-4CCC-89F1-467AA0C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9C548-009E-48C6-9243-8A60129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F828-6868-4EB3-8267-FFD42C10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BB982-0E94-4579-8EE7-46E8ED6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495B2-4DA7-4534-8989-6E2B1A3D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EAB9-76C8-41E0-858C-E7EFC91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F3C2B-7786-4C4D-8D78-6EF155C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40871-0EE2-45A5-8186-F9D021B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3587D-24D8-4B03-85C6-6284C5F5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FDB61-08F7-44D5-84CE-65E1BC8D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D9D5D-72D4-4960-916C-C89AF6CC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0CB9E-5A7D-4439-979C-DBB71F3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37436-D56D-42BE-B3E6-FE7C837F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24D79-1738-456D-B7B8-9684282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35383-793D-4D17-84A7-105C47E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2F327-ACF4-440E-B533-54E5515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B6058-02E2-42F6-8F3F-B7E3A28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7790-1372-4352-A08F-4693486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239D-5327-40A1-8865-CC67ED9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40B6F-9D9D-4FE7-A032-F88D9C9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23F03-D296-401A-8254-E0C1A4D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9DDDA-7E7B-4173-9A70-7BE7FCA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2E9E3-F4AD-47DF-A195-22A058CD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77020-3FA3-4288-AF28-89E2B677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5A0AC-09FB-4E7C-A8D5-31AC38D4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FB740-78FB-4BCE-9117-55CCD6BA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45544-7B04-49A2-AFFA-BC7FFD5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850C7-D462-49C6-A12C-4F6F573D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5014A-AB79-4C0B-955F-FBC60F9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58B77-F013-415C-8548-C762FD7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225BF-FFDD-4F87-813A-850BA214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2A54C-B7AB-42D6-8DE0-43D9A1BE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E44DE-4E61-4311-B779-3392E39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8868C-3A0E-4245-902F-3F47A9F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6F43A-C5C1-440D-B239-C9F6323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05019-E60C-4CED-918A-2EBBC72A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0219B-0B90-48EE-910F-976AF5D1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481BC-5644-45C6-B97C-CF2FC55A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8B55E-488F-43FC-8DEC-5BA585FC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9B711-17F5-4614-8459-8D4DC6A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E5FDC-4E52-440A-A0FA-F0AE234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BEC10-ECAD-4DEB-9B17-0E058E0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2E8C0-D5C0-4988-964C-8B08AFE4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AE153-862B-4334-B461-FB2C7DF0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3F2ED-7D04-4423-AC55-3DB703F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F22DE-7E18-42EA-BD70-7B9A713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32576-6FAD-4E3E-B2BA-44B8172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29170-EFB1-4E9E-BA05-A3C5653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A528E-281A-412B-8C55-FD0D0A3A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99539-BF28-48E2-84A5-427FF29E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E3BD1-A7FC-4A47-86CB-E541FC77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0DBC0-3508-4B1A-BAF2-27C71581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06382-EB3E-4421-9EA4-D279D873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DB8C7-0085-4A46-9302-C19A9490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58621-2803-48D7-AC45-21D8F78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2B0CA-7BB5-4472-9B68-7736657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7FEEF-A174-4E57-BA7F-0AF05B3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8CA35-CDFD-4F8C-B68C-9283388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00C5E-465A-4937-B51E-5CFCA85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C2671-FA24-4C02-A9AC-C47A5B3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6F1FD-BB76-4C01-A838-CD79050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1B3B4-6150-4627-A92D-0423F003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76BB-C274-4BC3-8C9C-E4C6166F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9F4E8-4263-4273-81FD-7DCDC2A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E5DA4-C434-4979-B33B-81EABFAD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232A0-E917-4B97-B60A-56B388A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7CE4C-8A7F-42D4-9FFD-F6292F3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9A593-FA1D-492D-A0E8-A3C575A0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AD7C0-5EC2-49CF-B3E5-3CDD211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E6385-BD23-42E9-9531-066D6E0C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00AA1-BF20-4775-9C74-3DD4B7D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1492D-25A0-4572-ADA3-299C9F3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DFB56-C1F9-48FF-AA7E-62F966D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FCBDD-E912-4B81-952A-CC99C8B69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3BD77-17EC-4681-A4B4-B81C31E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9A862-A464-48FC-9B7E-CFB37861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249DD-802D-4361-A610-9DE23B80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A88C3-AA10-468A-9278-61A8CB0D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A9430-0FAB-4026-9B1B-02AB346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64651-5839-4905-A816-1FFABC91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12991-33FC-4C0C-8F5B-F22ABDD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229CE-88E6-4C13-ADC3-4F9585A0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CA633-5701-4902-8423-0C753054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FDF33-FD27-4647-B315-D3FBAAA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B0DE7-21E8-4C04-92E3-68F47E4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B4975-1C4E-4EF8-9E58-4EDFAE96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6879C-82F1-4CE0-8F93-68530BB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4A591-6B01-4CC6-A1F6-6717D0D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0DDF6-8B96-490B-BB51-F3800416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73F2E-139E-4BE9-B268-86CD6C2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D976A-6A2B-4021-A7EC-03D6742C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0DD533-8BA2-489C-B157-A6C179E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18212-6C10-4C64-ACD7-2BE67135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CB00A-A5D1-4455-8273-B861733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06166-3578-4B76-A664-13B5BA7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C5D3A-A2D2-4D5A-9CF5-625AE92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32921-863B-4677-BD09-DD31B65B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BE360-A938-40A3-8B75-AE0C374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B2789-4D7F-44AD-878B-72703AD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D3FEE-CB1E-4E7F-B890-BC1DCF7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A24EA-FC2B-4BE1-95CB-916FD6C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756DC-06D4-4A03-9CE1-CD49D3F5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3EF97-C20A-4E51-B48B-4034C0AE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F811C-4A6C-4EDC-8741-E2E952E0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2859F-590D-4A10-A4DA-D1EB3547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8A8E0-8420-42D7-BC52-F427F2E4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E7EE6-E9FD-4207-8324-12732EB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73C0C-87AD-48A1-BC40-B3E162C4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C7BBA-B0D8-466A-9E73-76EB175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D4E49-4770-4795-A673-6B4D94C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DF4B1-3182-41F6-B103-D57CA58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6B913-7A10-407C-A12F-2C06017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417A2-D4A4-451B-87E9-9CBB78C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0333A-5822-424D-B1B6-5E18DEF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BBA2B-5B2C-4F80-AEC6-C10D6B69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2D563-A798-466D-9BBE-EED00A55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A5B57-535D-437A-A74F-F0292E73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2D9D-8261-40CA-B829-7013FB7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CEC13-E2B8-4338-88EA-6F84C217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10315-75E6-4DBB-B863-B8E0E47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A1571-13DB-436A-84FF-ED75F2D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6A7C9-A9D9-4512-9B48-0E9168B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8E262-4893-47A0-8B9F-021DB1C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998F7-15C8-4484-ADCA-2B5F04E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5179B-37EA-4E34-ABF6-55B919FFD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1982-904A-4E44-892E-5DA4C22C84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8BDA-A171-4514-9A8E-757ECEF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C17A-CBC9-401A-9508-65306ED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8AEC-0DF3-43F9-9578-276CEB8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5716-705F-4897-B532-478FE44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C488-B22E-43CE-BDE0-ECE9F054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C88A-9124-4050-8CAF-6FB66403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4556-DFBA-4940-A46B-F1ECB30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C851-4A52-4BE0-B42F-2977C93C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2FB3-0449-4DA8-84E7-1316764F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AE05-1ECB-48EC-93E9-01CE781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4B51-EA53-4895-A685-A93503C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50C8-C981-4EE6-993D-B9EB07361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BE5C9-1055-46F1-B7E3-8B6718FEA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5F71-E269-4D00-B260-C101F2EB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5AA05-37DE-400C-94B1-4B01F37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3107B-811E-40ED-8CA2-3B8CD16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7A2BC-2C83-4458-90FD-BB9C639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D8A5B-29FA-4C47-A1D1-CA87E080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6FEC1-1DE8-48F8-914B-08C8C5B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D96BD-AB61-4353-B744-28E331B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F9C8D-C803-41BB-98BE-149E34D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EC9D4-6829-45DC-BA9C-5748CF94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A048D-3C43-4727-A885-BF9EA1A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83783-1E13-4438-93F4-40B8460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E7B8-1B76-4C59-9AAD-455391BF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0A9D3-FE62-4271-8F4C-F71CB037C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C97A3-A014-4459-813D-E2105F2F4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B0CD0-9E05-41FA-A705-67CD4FE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91768-4D54-4BAE-853A-51864FB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FCA07-2F1C-403B-AF1F-9D0F5933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6ADD04-CC64-4C75-A74E-24BB7CC8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8EFDB-98AC-4FAD-BA49-0E063BF0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FA5C9-D497-44BD-BCB9-118DDFA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912356-6CEA-42A2-A262-96FAC35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5C3A5-354D-45B4-B891-DA11BA9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7B11-97DE-415D-A88D-F38D0CED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3E381-8BCB-4CE2-B91B-3D10E88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7BFF8-41F1-459E-BA38-68994736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D047D-3745-4D14-831B-47800AF45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B89D-1FCB-45F4-9358-4EA47E603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6836-FF3A-40EF-B34D-00BA09D1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7317-9A99-4F4E-B01F-B1BC8A0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CFB5-3BDB-492B-9589-8888E91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B9DD5-5FDE-4B20-AF5B-9C4F0FC2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DA59-EA98-492D-AD70-D08F29FE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0D87-608B-47F8-921F-EE0225A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9D04-DE05-44F7-85BE-CB707F0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7545A-0734-4D72-8AD3-6ED20D4F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A88A-9818-4AB2-A468-3392645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673D-679D-45AD-8F03-E4B3EDB2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81A8-9CFE-402A-B902-55E4DCB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EF1B-8353-4992-AA8E-6542551A8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E1B1F-BABD-4F91-BCED-BDDFE5709C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0585F-D586-4D6C-9269-3C4F33A9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0A598-9A2E-45B5-8CA4-0CB206A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90BAB-3856-4F6C-9B3A-C583D72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229B1-0745-4EE1-8CBE-46723788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40E1-F6AE-4B4C-BB85-C0649F6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87F21-0D8E-4D14-B099-F7BE12C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A6CB2-93A3-4970-BDA2-4D2515A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D39FA-6A49-4F0D-8EA6-50A2962C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F5A90-8468-4355-8CD4-F914FCE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71C6D-B387-4104-B2A8-FF013EA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BB0D2-C101-4259-A6EF-DFC7EEAA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C9334-3B82-46DE-94EB-BA259C56C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BFA68-DC22-457E-B1F0-B4A8EA02B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A21FF-E2ED-4D88-B18F-F9A5111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CC139-384A-4DC5-A9F4-9BFD36EB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1F13-DD21-4F96-8649-D5D696F438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503-8E7D-4E07-8552-573F167F27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8C2-C73A-42C6-BFB8-4C966B50DB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3350-91DD-4FED-88EA-55B5E669E02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90C2-8F99-4DB0-A3CB-4BEAFC315A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7136-7521-4EE6-BD9D-03E9D44870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519-EAAE-4DF1-94E2-EDEFEAA40C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9A5-EAB1-4890-BC7F-AC9E9343DB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29C5-658C-4E7F-B3A5-06D6926C5E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08F-5046-4DC3-AB1C-BE35962A50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FBD7-961A-4FE9-96CD-2C2AA0B40D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5FA6-B5BF-4021-A248-857AE923F9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884-45EF-405C-B392-1D38B3030C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308-95C6-4CCC-A9F1-694E8DBB4D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2AC9-D93C-44B8-98D1-FF5F32EB1C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7DF-78F5-444D-B7AB-A670DD3BBE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BBB3-E1C0-49C6-8EF7-C76AD897DF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932-61CC-43F7-86CF-51F405A19D0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2576-1065-434F-BB44-87A11EAC90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4FC-F535-411D-88A1-20AF1583BD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C26-17EE-4989-8CEC-0184C93F79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47E3-A3FF-4103-92C2-69A2871CE8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CC7-1541-406E-9801-F60C18808B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D26-C359-480C-810E-A6176A89B3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5112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大 小 比 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32"/>
          <p:cNvSpPr/>
          <p:nvPr/>
        </p:nvSpPr>
        <p:spPr>
          <a:xfrm>
            <a:off x="439560" y="11541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比较亿以内数的大小的方法：①数位不相同的两个数，位数多的数就大。②位数相同的两个数，最高位上的数大的那个数就大；最高位相同的，就比较第二位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直到比较出大小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3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六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99"/>
          <p:cNvSpPr/>
          <p:nvPr/>
        </p:nvSpPr>
        <p:spPr>
          <a:xfrm>
            <a:off x="279360" y="617400"/>
            <a:ext cx="85359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下列各数按照从大到小的顺序排列起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 10034500   7899999    11230000    9056789     799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808059     880059      808590      808509       8805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 609970     670099       690079     690790       670990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"/>
          <p:cNvSpPr/>
          <p:nvPr/>
        </p:nvSpPr>
        <p:spPr>
          <a:xfrm>
            <a:off x="725400" y="1965240"/>
            <a:ext cx="64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230000&gt;10034500&gt;9056789&gt;7995000&gt;78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2"/>
          <p:cNvSpPr/>
          <p:nvPr/>
        </p:nvSpPr>
        <p:spPr>
          <a:xfrm>
            <a:off x="752400" y="34020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80580&gt;880059&gt;808590&gt;808509&gt;808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3"/>
          <p:cNvSpPr/>
          <p:nvPr/>
        </p:nvSpPr>
        <p:spPr>
          <a:xfrm>
            <a:off x="728640" y="48132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90790&gt;690079&gt;670990&gt;670099&gt;609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27"/>
          <p:cNvSpPr/>
          <p:nvPr/>
        </p:nvSpPr>
        <p:spPr>
          <a:xfrm>
            <a:off x="152280" y="990720"/>
            <a:ext cx="86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说一说下面卡片上的数各是几位数，最高位是什么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圆角矩形 28"/>
          <p:cNvSpPr/>
          <p:nvPr/>
        </p:nvSpPr>
        <p:spPr>
          <a:xfrm>
            <a:off x="338040" y="2987640"/>
            <a:ext cx="142884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3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圆角矩形 29"/>
          <p:cNvSpPr/>
          <p:nvPr/>
        </p:nvSpPr>
        <p:spPr>
          <a:xfrm>
            <a:off x="2286000" y="2987640"/>
            <a:ext cx="185256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300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圆角矩形 30"/>
          <p:cNvSpPr/>
          <p:nvPr/>
        </p:nvSpPr>
        <p:spPr>
          <a:xfrm>
            <a:off x="4648320" y="298764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76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圆角矩形 31"/>
          <p:cNvSpPr/>
          <p:nvPr/>
        </p:nvSpPr>
        <p:spPr>
          <a:xfrm>
            <a:off x="6781680" y="2987640"/>
            <a:ext cx="223380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6432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2"/>
          <p:cNvSpPr/>
          <p:nvPr/>
        </p:nvSpPr>
        <p:spPr>
          <a:xfrm>
            <a:off x="33804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3"/>
          <p:cNvSpPr/>
          <p:nvPr/>
        </p:nvSpPr>
        <p:spPr>
          <a:xfrm>
            <a:off x="2481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34"/>
          <p:cNvSpPr/>
          <p:nvPr/>
        </p:nvSpPr>
        <p:spPr>
          <a:xfrm>
            <a:off x="4767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十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5"/>
          <p:cNvSpPr/>
          <p:nvPr/>
        </p:nvSpPr>
        <p:spPr>
          <a:xfrm>
            <a:off x="7053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1"/>
          <p:cNvSpPr/>
          <p:nvPr/>
        </p:nvSpPr>
        <p:spPr>
          <a:xfrm>
            <a:off x="1020960" y="1126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椭圆 5"/>
          <p:cNvSpPr/>
          <p:nvPr/>
        </p:nvSpPr>
        <p:spPr>
          <a:xfrm>
            <a:off x="4248000" y="1981080"/>
            <a:ext cx="609840" cy="6001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3257640" y="1986120"/>
            <a:ext cx="2714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89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3"/>
          <p:cNvSpPr/>
          <p:nvPr/>
        </p:nvSpPr>
        <p:spPr>
          <a:xfrm>
            <a:off x="152280" y="1066680"/>
            <a:ext cx="8839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比一比下面各组数的大小，说一说你是怎样比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4"/>
          <p:cNvSpPr/>
          <p:nvPr/>
        </p:nvSpPr>
        <p:spPr>
          <a:xfrm>
            <a:off x="466560" y="199080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35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1247760" y="1986120"/>
            <a:ext cx="609480" cy="59976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9702"/>
          <p:cNvSpPr/>
          <p:nvPr/>
        </p:nvSpPr>
        <p:spPr>
          <a:xfrm>
            <a:off x="434808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"/>
          <p:cNvSpPr/>
          <p:nvPr/>
        </p:nvSpPr>
        <p:spPr>
          <a:xfrm>
            <a:off x="6276960" y="198612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901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5"/>
          <p:cNvSpPr/>
          <p:nvPr/>
        </p:nvSpPr>
        <p:spPr>
          <a:xfrm>
            <a:off x="7267680" y="1986120"/>
            <a:ext cx="609480" cy="59976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29705"/>
          <p:cNvSpPr/>
          <p:nvPr/>
        </p:nvSpPr>
        <p:spPr>
          <a:xfrm>
            <a:off x="132552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29706"/>
          <p:cNvSpPr/>
          <p:nvPr/>
        </p:nvSpPr>
        <p:spPr>
          <a:xfrm>
            <a:off x="734508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29707" descr="图形1"/>
          <p:cNvPicPr/>
          <p:nvPr/>
        </p:nvPicPr>
        <p:blipFill>
          <a:blip r:embed="rId1"/>
          <a:stretch/>
        </p:blipFill>
        <p:spPr>
          <a:xfrm>
            <a:off x="762120" y="3429000"/>
            <a:ext cx="2160360" cy="2575080"/>
          </a:xfrm>
          <a:prstGeom prst="rect">
            <a:avLst/>
          </a:prstGeom>
          <a:ln w="0">
            <a:noFill/>
          </a:ln>
        </p:spPr>
      </p:pic>
      <p:sp>
        <p:nvSpPr>
          <p:cNvPr id="1030" name="文本框 29708"/>
          <p:cNvSpPr/>
          <p:nvPr/>
        </p:nvSpPr>
        <p:spPr>
          <a:xfrm>
            <a:off x="3418560" y="362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你真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圆角矩形标注 29709"/>
          <p:cNvSpPr/>
          <p:nvPr/>
        </p:nvSpPr>
        <p:spPr>
          <a:xfrm>
            <a:off x="3048120" y="3581280"/>
            <a:ext cx="1828800" cy="762120"/>
          </a:xfrm>
          <a:prstGeom prst="wedgeRoundRectCallout">
            <a:avLst>
              <a:gd name="adj1" fmla="val -51564"/>
              <a:gd name="adj2" fmla="val 59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Box 8"/>
          <p:cNvSpPr/>
          <p:nvPr/>
        </p:nvSpPr>
        <p:spPr>
          <a:xfrm>
            <a:off x="285840" y="3429000"/>
            <a:ext cx="885816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以内数的大小比较方法与原来所学的万以内数的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比较方法有什么相同之处和不同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5"/>
          <p:cNvSpPr/>
          <p:nvPr/>
        </p:nvSpPr>
        <p:spPr>
          <a:xfrm>
            <a:off x="228600" y="838080"/>
            <a:ext cx="8501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比较下面四组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3500         435000              6030045         6030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76200        875800            904030        904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6"/>
          <p:cNvSpPr/>
          <p:nvPr/>
        </p:nvSpPr>
        <p:spPr>
          <a:xfrm>
            <a:off x="1606680" y="157176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10"/>
          <p:cNvSpPr/>
          <p:nvPr/>
        </p:nvSpPr>
        <p:spPr>
          <a:xfrm>
            <a:off x="1852560" y="2400480"/>
            <a:ext cx="57168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11"/>
          <p:cNvSpPr/>
          <p:nvPr/>
        </p:nvSpPr>
        <p:spPr>
          <a:xfrm>
            <a:off x="5638680" y="2400480"/>
            <a:ext cx="57168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12"/>
          <p:cNvSpPr/>
          <p:nvPr/>
        </p:nvSpPr>
        <p:spPr>
          <a:xfrm>
            <a:off x="5829480" y="158760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30727"/>
          <p:cNvSpPr/>
          <p:nvPr/>
        </p:nvSpPr>
        <p:spPr>
          <a:xfrm>
            <a:off x="1682640" y="15876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30728"/>
          <p:cNvSpPr/>
          <p:nvPr/>
        </p:nvSpPr>
        <p:spPr>
          <a:xfrm>
            <a:off x="1944720" y="24084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30729"/>
          <p:cNvSpPr/>
          <p:nvPr/>
        </p:nvSpPr>
        <p:spPr>
          <a:xfrm>
            <a:off x="5906880" y="15858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30730"/>
          <p:cNvSpPr/>
          <p:nvPr/>
        </p:nvSpPr>
        <p:spPr>
          <a:xfrm>
            <a:off x="5742000" y="24066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30731"/>
          <p:cNvSpPr/>
          <p:nvPr/>
        </p:nvSpPr>
        <p:spPr>
          <a:xfrm>
            <a:off x="4455000" y="4890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方法相同，只是亿以内数的位数比万以内的位数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0" y="101520"/>
            <a:ext cx="5410080" cy="525600"/>
            <a:chOff x="0" y="101520"/>
            <a:chExt cx="5410080" cy="525600"/>
          </a:xfrm>
        </p:grpSpPr>
        <p:pic>
          <p:nvPicPr>
            <p:cNvPr id="104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0360" y="101520"/>
              <a:ext cx="51397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0" y="196560"/>
              <a:ext cx="723960" cy="273960"/>
              <a:chOff x="0" y="196560"/>
              <a:chExt cx="723960" cy="27396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83680" y="34848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27864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83680" y="21204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320" y="20592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8908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072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4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4" name="组合 3"/>
          <p:cNvGrpSpPr/>
          <p:nvPr/>
        </p:nvGrpSpPr>
        <p:grpSpPr>
          <a:xfrm>
            <a:off x="214200" y="1260360"/>
            <a:ext cx="2571840" cy="2419560"/>
            <a:chOff x="214200" y="1260360"/>
            <a:chExt cx="2571840" cy="2419560"/>
          </a:xfrm>
        </p:grpSpPr>
        <p:pic>
          <p:nvPicPr>
            <p:cNvPr id="1055" name="Picture 8" descr="D:\我的文档-桌面-收藏夹\桌面\美国人.jpg"/>
            <p:cNvPicPr/>
            <p:nvPr/>
          </p:nvPicPr>
          <p:blipFill>
            <a:blip r:embed="rId8"/>
            <a:stretch/>
          </p:blipFill>
          <p:spPr>
            <a:xfrm>
              <a:off x="356760" y="1260360"/>
              <a:ext cx="2187000" cy="17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TextBox 5"/>
            <p:cNvSpPr/>
            <p:nvPr/>
          </p:nvSpPr>
          <p:spPr>
            <a:xfrm>
              <a:off x="214200" y="3108600"/>
              <a:ext cx="2571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美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2116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6"/>
          <p:cNvGrpSpPr/>
          <p:nvPr/>
        </p:nvGrpSpPr>
        <p:grpSpPr>
          <a:xfrm>
            <a:off x="168120" y="3760920"/>
            <a:ext cx="2954520" cy="2130120"/>
            <a:chOff x="168120" y="3760920"/>
            <a:chExt cx="2954520" cy="2130120"/>
          </a:xfrm>
        </p:grpSpPr>
        <p:pic>
          <p:nvPicPr>
            <p:cNvPr id="1058" name="Picture 4" descr="D:\我的文档-桌面-收藏夹\桌面\俄罗斯.jpg"/>
            <p:cNvPicPr/>
            <p:nvPr/>
          </p:nvPicPr>
          <p:blipFill>
            <a:blip r:embed="rId9"/>
            <a:stretch/>
          </p:blipFill>
          <p:spPr>
            <a:xfrm>
              <a:off x="357120" y="3760920"/>
              <a:ext cx="2286360" cy="147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TextBox 8"/>
            <p:cNvSpPr/>
            <p:nvPr/>
          </p:nvSpPr>
          <p:spPr>
            <a:xfrm>
              <a:off x="168120" y="5319720"/>
              <a:ext cx="2954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俄罗斯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2536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9"/>
          <p:cNvGrpSpPr/>
          <p:nvPr/>
        </p:nvGrpSpPr>
        <p:grpSpPr>
          <a:xfrm>
            <a:off x="3454560" y="3708360"/>
            <a:ext cx="2546280" cy="2309760"/>
            <a:chOff x="3454560" y="3708360"/>
            <a:chExt cx="2546280" cy="2309760"/>
          </a:xfrm>
        </p:grpSpPr>
        <p:pic>
          <p:nvPicPr>
            <p:cNvPr id="1061" name="Picture 3" descr="D:\我的文档-桌面-收藏夹\桌面\印度人.jpg"/>
            <p:cNvPicPr/>
            <p:nvPr/>
          </p:nvPicPr>
          <p:blipFill>
            <a:blip r:embed="rId10"/>
            <a:stretch/>
          </p:blipFill>
          <p:spPr>
            <a:xfrm>
              <a:off x="3929400" y="3708360"/>
              <a:ext cx="15966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TextBox 11"/>
            <p:cNvSpPr/>
            <p:nvPr/>
          </p:nvSpPr>
          <p:spPr>
            <a:xfrm>
              <a:off x="3454560" y="5446440"/>
              <a:ext cx="25462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印度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606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12"/>
          <p:cNvGrpSpPr/>
          <p:nvPr/>
        </p:nvGrpSpPr>
        <p:grpSpPr>
          <a:xfrm>
            <a:off x="6518160" y="3708360"/>
            <a:ext cx="2546640" cy="2157480"/>
            <a:chOff x="6518160" y="3708360"/>
            <a:chExt cx="2546640" cy="2157480"/>
          </a:xfrm>
        </p:grpSpPr>
        <p:pic>
          <p:nvPicPr>
            <p:cNvPr id="1064" name="Picture 2" descr="D:\我的文档-桌面-收藏夹\桌面\韩国人.jpg"/>
            <p:cNvPicPr/>
            <p:nvPr/>
          </p:nvPicPr>
          <p:blipFill>
            <a:blip r:embed="rId11"/>
            <a:stretch/>
          </p:blipFill>
          <p:spPr>
            <a:xfrm>
              <a:off x="6778800" y="3708360"/>
              <a:ext cx="178596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TextBox 14"/>
            <p:cNvSpPr/>
            <p:nvPr/>
          </p:nvSpPr>
          <p:spPr>
            <a:xfrm>
              <a:off x="6518160" y="5294520"/>
              <a:ext cx="2546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韩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4185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15"/>
          <p:cNvGrpSpPr/>
          <p:nvPr/>
        </p:nvGrpSpPr>
        <p:grpSpPr>
          <a:xfrm>
            <a:off x="3500280" y="1157400"/>
            <a:ext cx="2571840" cy="2506680"/>
            <a:chOff x="3500280" y="1157400"/>
            <a:chExt cx="2571840" cy="2506680"/>
          </a:xfrm>
        </p:grpSpPr>
        <p:sp>
          <p:nvSpPr>
            <p:cNvPr id="1067" name="TextBox 16"/>
            <p:cNvSpPr/>
            <p:nvPr/>
          </p:nvSpPr>
          <p:spPr>
            <a:xfrm>
              <a:off x="3500280" y="3093120"/>
              <a:ext cx="25718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日本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3658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8" name="Picture 6" descr="D:\我的文档-桌面-收藏夹\桌面\日本人.jpg"/>
            <p:cNvPicPr/>
            <p:nvPr/>
          </p:nvPicPr>
          <p:blipFill>
            <a:blip r:embed="rId12"/>
            <a:stretch/>
          </p:blipFill>
          <p:spPr>
            <a:xfrm>
              <a:off x="3785760" y="1157400"/>
              <a:ext cx="1643040" cy="179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TextBox 21"/>
          <p:cNvSpPr/>
          <p:nvPr/>
        </p:nvSpPr>
        <p:spPr>
          <a:xfrm>
            <a:off x="374760" y="5865840"/>
            <a:ext cx="7929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你会比较每两个国家到我国旅游的人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1"/>
          <p:cNvSpPr/>
          <p:nvPr/>
        </p:nvSpPr>
        <p:spPr>
          <a:xfrm>
            <a:off x="2803320" y="1126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情景导入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31762"/>
          <p:cNvGrpSpPr/>
          <p:nvPr/>
        </p:nvGrpSpPr>
        <p:grpSpPr>
          <a:xfrm>
            <a:off x="6572160" y="1163520"/>
            <a:ext cx="2571840" cy="2424240"/>
            <a:chOff x="6572160" y="1163520"/>
            <a:chExt cx="2571840" cy="2424240"/>
          </a:xfrm>
        </p:grpSpPr>
        <p:sp>
          <p:nvSpPr>
            <p:cNvPr id="1072" name="TextBox 19"/>
            <p:cNvSpPr/>
            <p:nvPr/>
          </p:nvSpPr>
          <p:spPr>
            <a:xfrm>
              <a:off x="6572160" y="3016080"/>
              <a:ext cx="2571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泰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608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3" name="图片 31764" descr="图形1"/>
            <p:cNvPicPr/>
            <p:nvPr/>
          </p:nvPicPr>
          <p:blipFill>
            <a:blip r:embed="rId13"/>
            <a:stretch/>
          </p:blipFill>
          <p:spPr>
            <a:xfrm>
              <a:off x="6781680" y="1163520"/>
              <a:ext cx="1828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2"/>
          <p:cNvSpPr/>
          <p:nvPr/>
        </p:nvSpPr>
        <p:spPr>
          <a:xfrm>
            <a:off x="1003320" y="685800"/>
            <a:ext cx="77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几个国家到我国旅游的人数。（单位：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1"/>
          <p:cNvGrpSpPr/>
          <p:nvPr/>
        </p:nvGrpSpPr>
        <p:grpSpPr>
          <a:xfrm>
            <a:off x="279360" y="826920"/>
            <a:ext cx="1883880" cy="459720"/>
            <a:chOff x="279360" y="826920"/>
            <a:chExt cx="1883880" cy="459720"/>
          </a:xfrm>
        </p:grpSpPr>
        <p:sp>
          <p:nvSpPr>
            <p:cNvPr id="1077" name="TextBox 3"/>
            <p:cNvSpPr/>
            <p:nvPr/>
          </p:nvSpPr>
          <p:spPr>
            <a:xfrm>
              <a:off x="383760" y="82692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缺角矩形 37"/>
            <p:cNvSpPr/>
            <p:nvPr/>
          </p:nvSpPr>
          <p:spPr>
            <a:xfrm>
              <a:off x="279360" y="94752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3"/>
          <p:cNvSpPr/>
          <p:nvPr/>
        </p:nvSpPr>
        <p:spPr>
          <a:xfrm>
            <a:off x="361800" y="1254240"/>
            <a:ext cx="85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题中给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国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到我国旅游的人数情况，要比较每个国家到我国旅游的人数，就是比较每两个数的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6"/>
          <p:cNvGrpSpPr/>
          <p:nvPr/>
        </p:nvGrpSpPr>
        <p:grpSpPr>
          <a:xfrm>
            <a:off x="260280" y="2530440"/>
            <a:ext cx="8530920" cy="1189080"/>
            <a:chOff x="260280" y="2530440"/>
            <a:chExt cx="8530920" cy="1189080"/>
          </a:xfrm>
        </p:grpSpPr>
        <p:grpSp>
          <p:nvGrpSpPr>
            <p:cNvPr id="1081" name="组合 38"/>
            <p:cNvGrpSpPr/>
            <p:nvPr/>
          </p:nvGrpSpPr>
          <p:grpSpPr>
            <a:xfrm>
              <a:off x="260280" y="2530440"/>
              <a:ext cx="2147760" cy="459720"/>
              <a:chOff x="260280" y="2530440"/>
              <a:chExt cx="2147760" cy="459720"/>
            </a:xfrm>
          </p:grpSpPr>
          <p:sp>
            <p:nvSpPr>
              <p:cNvPr id="1082" name="TextBox 3"/>
              <p:cNvSpPr/>
              <p:nvPr/>
            </p:nvSpPr>
            <p:spPr>
              <a:xfrm>
                <a:off x="364680" y="253044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缺角矩形 40"/>
              <p:cNvSpPr/>
              <p:nvPr/>
            </p:nvSpPr>
            <p:spPr>
              <a:xfrm>
                <a:off x="260280" y="26510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文本框 4"/>
            <p:cNvSpPr/>
            <p:nvPr/>
          </p:nvSpPr>
          <p:spPr>
            <a:xfrm>
              <a:off x="365400" y="3076920"/>
              <a:ext cx="84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比较两个数的大小，首先要确定比较的这两个数各是几位数，位数越多，这个数就越大。如果两个数位数相同，就比较最高位上的数字，最高位上的数大的那个数就大；如果最高位上的数也相同，就依次比较下一个数位上的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组合 33795"/>
          <p:cNvGrpSpPr/>
          <p:nvPr/>
        </p:nvGrpSpPr>
        <p:grpSpPr>
          <a:xfrm>
            <a:off x="682560" y="1176480"/>
            <a:ext cx="7489800" cy="1908000"/>
            <a:chOff x="682560" y="1176480"/>
            <a:chExt cx="7489800" cy="1908000"/>
          </a:xfrm>
        </p:grpSpPr>
        <p:sp>
          <p:nvSpPr>
            <p:cNvPr id="1086" name="矩形 33796"/>
            <p:cNvSpPr/>
            <p:nvPr/>
          </p:nvSpPr>
          <p:spPr>
            <a:xfrm>
              <a:off x="682560" y="1176480"/>
              <a:ext cx="7489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较下面每组中两个数的大小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组合 33797"/>
            <p:cNvGrpSpPr/>
            <p:nvPr/>
          </p:nvGrpSpPr>
          <p:grpSpPr>
            <a:xfrm>
              <a:off x="1150920" y="1922400"/>
              <a:ext cx="6805440" cy="1162080"/>
              <a:chOff x="1150920" y="1922400"/>
              <a:chExt cx="6805440" cy="1162080"/>
            </a:xfrm>
          </p:grpSpPr>
          <p:sp>
            <p:nvSpPr>
              <p:cNvPr id="1088" name="矩形 33798"/>
              <p:cNvSpPr/>
              <p:nvPr/>
            </p:nvSpPr>
            <p:spPr>
              <a:xfrm>
                <a:off x="1150920" y="1922400"/>
                <a:ext cx="6805440" cy="11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2504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3600              50140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31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906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890              620300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07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33799"/>
              <p:cNvSpPr/>
              <p:nvPr/>
            </p:nvSpPr>
            <p:spPr>
              <a:xfrm>
                <a:off x="2152800" y="1980720"/>
                <a:ext cx="431640" cy="4316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椭圆 33800"/>
              <p:cNvSpPr/>
              <p:nvPr/>
            </p:nvSpPr>
            <p:spPr>
              <a:xfrm>
                <a:off x="2151000" y="2619000"/>
                <a:ext cx="432000" cy="431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椭圆 33801"/>
              <p:cNvSpPr/>
              <p:nvPr/>
            </p:nvSpPr>
            <p:spPr>
              <a:xfrm>
                <a:off x="5702400" y="2619000"/>
                <a:ext cx="431640" cy="431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椭圆 33802"/>
              <p:cNvSpPr/>
              <p:nvPr/>
            </p:nvSpPr>
            <p:spPr>
              <a:xfrm>
                <a:off x="5699160" y="1977480"/>
                <a:ext cx="431640" cy="4316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文本框 33803"/>
          <p:cNvSpPr/>
          <p:nvPr/>
        </p:nvSpPr>
        <p:spPr>
          <a:xfrm>
            <a:off x="2135160" y="19080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3804"/>
          <p:cNvSpPr/>
          <p:nvPr/>
        </p:nvSpPr>
        <p:spPr>
          <a:xfrm>
            <a:off x="5716440" y="19080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33805"/>
          <p:cNvSpPr/>
          <p:nvPr/>
        </p:nvSpPr>
        <p:spPr>
          <a:xfrm>
            <a:off x="5715000" y="257796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33806"/>
          <p:cNvSpPr/>
          <p:nvPr/>
        </p:nvSpPr>
        <p:spPr>
          <a:xfrm>
            <a:off x="2187720" y="257796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"/>
          <p:cNvSpPr/>
          <p:nvPr/>
        </p:nvSpPr>
        <p:spPr>
          <a:xfrm>
            <a:off x="1008000" y="4703760"/>
            <a:ext cx="6276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000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05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5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00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33808"/>
          <p:cNvGrpSpPr/>
          <p:nvPr/>
        </p:nvGrpSpPr>
        <p:grpSpPr>
          <a:xfrm>
            <a:off x="655560" y="3484440"/>
            <a:ext cx="7345440" cy="1200960"/>
            <a:chOff x="655560" y="3484440"/>
            <a:chExt cx="7345440" cy="1200960"/>
          </a:xfrm>
        </p:grpSpPr>
        <p:sp>
          <p:nvSpPr>
            <p:cNvPr id="1099" name="矩形 33809"/>
            <p:cNvSpPr/>
            <p:nvPr/>
          </p:nvSpPr>
          <p:spPr>
            <a:xfrm>
              <a:off x="655560" y="3484440"/>
              <a:ext cx="7345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按照从小到大的顺序排列下面各数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33810"/>
            <p:cNvSpPr/>
            <p:nvPr/>
          </p:nvSpPr>
          <p:spPr>
            <a:xfrm>
              <a:off x="1090440" y="4152600"/>
              <a:ext cx="663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500       500500       55000       40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441360" y="174600"/>
            <a:ext cx="273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201600" y="1447920"/>
            <a:ext cx="497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问题：如何比较多个数的大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"/>
          <p:cNvSpPr/>
          <p:nvPr/>
        </p:nvSpPr>
        <p:spPr>
          <a:xfrm>
            <a:off x="76320" y="2058840"/>
            <a:ext cx="868680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先按照位数的多少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位数相同的多个数，先比较其中两个数的大小，再用较大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与第三个数比大小，用这种方法找到这几个数中最大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再用较小数与第三个数比大小，用这种方法找到这几个数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最小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35845"/>
          <p:cNvSpPr/>
          <p:nvPr/>
        </p:nvSpPr>
        <p:spPr>
          <a:xfrm>
            <a:off x="307800" y="41940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8965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00          208808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060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201           30500000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7" name=""/>
          <p:cNvSpPr txBox="1"/>
          <p:nvPr/>
        </p:nvSpPr>
        <p:spPr>
          <a:xfrm>
            <a:off x="383760" y="768240"/>
            <a:ext cx="762012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下面的数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20050   432500   4230005   432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1"/>
          <p:cNvSpPr/>
          <p:nvPr/>
        </p:nvSpPr>
        <p:spPr>
          <a:xfrm>
            <a:off x="1618920" y="1238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四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35843"/>
          <p:cNvSpPr/>
          <p:nvPr/>
        </p:nvSpPr>
        <p:spPr>
          <a:xfrm>
            <a:off x="691920" y="2317680"/>
            <a:ext cx="6944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32500 &lt; 4230005 &lt; 4320005 &lt; 432005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35844"/>
          <p:cNvSpPr/>
          <p:nvPr/>
        </p:nvSpPr>
        <p:spPr>
          <a:xfrm>
            <a:off x="6404040" y="53974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35846"/>
          <p:cNvSpPr/>
          <p:nvPr/>
        </p:nvSpPr>
        <p:spPr>
          <a:xfrm>
            <a:off x="2762640" y="361332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比较下面每组中两个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5847"/>
          <p:cNvSpPr/>
          <p:nvPr/>
        </p:nvSpPr>
        <p:spPr>
          <a:xfrm>
            <a:off x="2138040" y="4483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5848"/>
          <p:cNvSpPr/>
          <p:nvPr/>
        </p:nvSpPr>
        <p:spPr>
          <a:xfrm>
            <a:off x="6229440" y="4483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5849"/>
          <p:cNvSpPr/>
          <p:nvPr/>
        </p:nvSpPr>
        <p:spPr>
          <a:xfrm>
            <a:off x="2138040" y="53974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流程图: 联系 35850"/>
          <p:cNvSpPr/>
          <p:nvPr/>
        </p:nvSpPr>
        <p:spPr>
          <a:xfrm>
            <a:off x="2060640" y="4498920"/>
            <a:ext cx="53316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流程图: 联系 35851"/>
          <p:cNvSpPr/>
          <p:nvPr/>
        </p:nvSpPr>
        <p:spPr>
          <a:xfrm>
            <a:off x="6099120" y="4483080"/>
            <a:ext cx="53352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流程图: 联系 35852"/>
          <p:cNvSpPr/>
          <p:nvPr/>
        </p:nvSpPr>
        <p:spPr>
          <a:xfrm>
            <a:off x="6327720" y="5397480"/>
            <a:ext cx="53352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流程图: 联系 35853"/>
          <p:cNvSpPr/>
          <p:nvPr/>
        </p:nvSpPr>
        <p:spPr>
          <a:xfrm>
            <a:off x="2060640" y="5397480"/>
            <a:ext cx="53316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49:44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